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FFED-5616-43B9-A898-818B4090D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AF97-C740-4548-9ECD-0CE9E7D37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3ECAD6-0A1C-46D3-A851-F3AA52967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E7AA41-1CAA-4B88-A4D5-8444C9DFA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B96B72-F794-4A61-B460-8CBE8DFD4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3AD2E3-1C55-4695-9F30-BE3E49F29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8831DF-CE97-4D1F-84E8-58BF42824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7D12A6-0529-4476-8D7B-BEDA72D79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1D0864-9599-4142-96ED-FDD6B05D4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608CB3-64BF-4A9B-B87F-E9E504DA5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DE2D47-94E0-49D5-8E46-4B6EAAD34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078DAC-EB6C-4671-B37C-C13116A7A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CE6A-E3DE-4C73-91DE-81EA1008C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20E7B6-A19C-4F0C-95A4-34F593E02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442E14-F4D0-4A1C-BAC7-D45C04172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AC5F73-5B36-446C-AEAA-35D6D76B5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18C4AF-9F54-4083-8F45-949E6F2B9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EEBF87-DC02-4BBC-8997-CD1491D6A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F86D0D-24FF-4818-BAE1-0C0A62032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BDEF63-538D-4A04-BCCE-B4ADB2B69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1A83B9-E796-48C0-A3D4-CA3A7184F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37BD05-EDD9-4B5E-9AFB-C596747DB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925656-C0FB-45AF-B78B-999496738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4A36-92B5-4157-83C6-231B4818A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663219-4712-4E50-9815-9EFD3C4CF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E0A04-5256-4FE7-88AF-EBA93A53E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CBD43-9EFE-4DC7-B5C6-41669E1C5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F191D-1BE1-4599-9D7C-09AAC821E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BAE97-EEC2-40DF-A3D5-382923003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F7ADB-DFA1-4E29-BADC-4E4D44F5F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E6567-2D42-42D5-8C60-39C31A44F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14A15-6F4E-4B24-A682-3E8A075B1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C476-2943-427D-9045-8BCE5B385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3FBBD-FC8B-41CB-8524-81BED03F5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B9A60-5071-457E-96A2-B8865EFD1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0CE4B-0E3B-413D-A199-F37A81044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2AA46-AC1B-43C7-B590-50668158C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A864D-1559-49AC-A27E-DA965E8E7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F6A946-2B43-4B0A-BE28-3EFD9D0C0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F05D44-DA7D-4F33-9D75-448B46762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AE03B9-B7AE-410D-8E8F-C5F7E9ED3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788656-FEE2-4F14-B549-A35684CB2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E7BC82-7224-4749-846A-1B05D4472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0700-F459-4CFD-8489-527D5BB6E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14C538-7E4E-4E25-BDE9-B8A932990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FFCB9C-4B4C-4923-949D-6782788A4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C26599-25B3-463A-83D0-A22EE6912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02C9A6-4AE8-402B-95DF-7B96ED808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381D64-33B9-4AE4-B382-B406A2061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17A56F-636A-4449-A160-19C59C200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A66602-062D-4B1B-9EBF-9EDDC15A4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DA89DB-2542-4693-A2B6-B36598606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E4DF94-6C51-4A46-A95B-289CB39CB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29A92A-334A-4248-B783-AC81D9137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F62C-2BCC-40AC-AF47-77CF377AE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CD4815-EBC9-464B-88EC-4FAEE5B72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4A91B8-634E-4BFD-B948-CCBCF19FA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D7A172-5F2D-48F4-AD17-3B414B2AA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08B951-9B92-4474-A60A-51ABBC2E9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E0CD42-1CB2-4FD0-BA45-5CA364EA7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1B5BA7-F83A-44EC-8446-6248CEFB9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67BC3E-4B8A-4C57-A260-1443FDB5A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61F031-79CE-4DFC-A4DD-A2B9F6856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8364DB-A87F-46B1-B336-26C20BC01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03F3EA-0483-43D9-8FDF-9B69F055E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81DC-3BDA-48C9-99E3-4FACF2C50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C216B9-901A-4DDB-91D6-83C83EDB5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B186B9-E116-4A02-B206-C6A693257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70EC6C-1316-4D76-BF6E-5C36E0C86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4BBA93-4823-470A-BC9E-A80CB9522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B67912-4EEB-4B51-8E25-8749B8605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2E1FF5-E52C-43C1-9F3E-9FB13959B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16AAD8-5FB5-4DB4-9EB8-1B47B77FC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8ADE09-96ED-464E-80F9-59DE69729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64BC77-ACBB-4620-9508-087F1F879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91A1F3-4B7F-4AAE-A04E-25F7CE945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2DA5-451E-4D5D-A382-610D68904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45A166-7CB9-44FE-9F80-B1F9556B1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3D5668-78D5-4485-9448-D07D2888E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5CD0CB-E19A-4845-99F7-5EF93632A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2D6416-225A-4E50-818B-D4BCFCE7B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C35900-832A-494C-8023-B5AC5324D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9C2D59-1106-4B91-9780-D591283B3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3B0D1C-59C9-4720-9CA3-6AEB6F8D7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4FABB7-26A8-499D-B2A9-DD76A7E20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28A8DD-1FEC-466D-8950-4D997DBF4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8293FD-FA1F-4120-86C0-A02AE124F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8160-3489-4F15-BAF0-9A916E5CA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F59F92-CF5B-472D-94F1-6C40AE403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CB16DB-D17B-49F1-A3D6-088789FCA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9A00D1-C8DF-48E5-833A-6E80CC59E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234001-4BEC-4EC9-967B-195E33E1A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7C565F-6F51-4DEC-BF36-084D467BF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B3C5B8-EB38-45B0-B922-234610780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12EDC3-5FE1-403B-A546-DC912F93F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95CFFF-098E-44B5-B493-7C67C48E7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FA2A7E-BD40-4373-A97C-A498CED23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5DB84A-C828-4CA7-9E35-652BBE597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2987-4A13-4800-A401-165836989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2346BC-9F2F-47D1-A922-580AE90EF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89E130-9137-4C2A-9D99-8A6DA0BBD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97A87C-0EE1-452B-9803-B23C130D8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F66BAD-7DD9-450C-8E28-B134DDDAD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95F10F-3C51-49EF-8C0E-C96AA7F27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0A159D-D4D9-4CD5-A734-EBE2AEB2B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E0AB33-D29D-45A3-827A-BA20CC440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778BE0-B038-48BF-9AFD-5E906CE72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6D7B0A-8F59-40D8-A7BE-C052D468B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7CC4E3-A712-405C-935B-60030D96E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23BE-DCF7-464A-9F18-BA251D768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B25769-096D-4B19-B3B0-C10D173D7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1585EA-C727-4B59-9502-8091F053A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E625A9-B74F-4836-BC73-1E446600D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91C640-0E1F-4720-AC5E-ED6B1FF23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BBDD9F-D716-43DB-A194-D77EE8401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48FA51-1605-4942-8542-839FD7EC6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606FE9-521B-4A2C-A915-96E477090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435167-AEC2-4EFC-87E0-6B4DC2ABA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EB15C9-80E1-4B2E-9DD5-5FE5F51A9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BFAC62-8D9B-48CA-836C-1AB57B068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CE84F-F616-4EB8-B2EB-938C846AE360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6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Rectangle 7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8" name="Group 8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449" name="Freeform 9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450" name="Freeform 9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1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2" name="Rectangle 10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c0504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Rectangle 11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8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9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0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F9F96-731C-47FF-9400-A0C98BD36815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5"/>
          <p:cNvSpPr/>
          <p:nvPr/>
        </p:nvSpPr>
        <p:spPr>
          <a:xfrm>
            <a:off x="0" y="1928880"/>
            <a:ext cx="9144000" cy="492912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46" descr="2.png"/>
          <p:cNvPicPr/>
          <p:nvPr/>
        </p:nvPicPr>
        <p:blipFill>
          <a:blip r:embed="rId2"/>
          <a:stretch/>
        </p:blipFill>
        <p:spPr>
          <a:xfrm>
            <a:off x="5072040" y="3571920"/>
            <a:ext cx="3718080" cy="328608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20"/>
          <p:cNvGrpSpPr/>
          <p:nvPr/>
        </p:nvGrpSpPr>
        <p:grpSpPr>
          <a:xfrm>
            <a:off x="7287480" y="716400"/>
            <a:ext cx="867600" cy="1688400"/>
            <a:chOff x="7287480" y="716400"/>
            <a:chExt cx="867600" cy="1688400"/>
          </a:xfrm>
        </p:grpSpPr>
        <p:sp>
          <p:nvSpPr>
            <p:cNvPr id="44" name="Rectangle 19"/>
            <p:cNvSpPr/>
            <p:nvPr/>
          </p:nvSpPr>
          <p:spPr>
            <a:xfrm rot="360000">
              <a:off x="7868880" y="878760"/>
              <a:ext cx="210960" cy="144504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" name="Group 18"/>
            <p:cNvGrpSpPr/>
            <p:nvPr/>
          </p:nvGrpSpPr>
          <p:grpSpPr>
            <a:xfrm>
              <a:off x="7287480" y="716400"/>
              <a:ext cx="669960" cy="1688400"/>
              <a:chOff x="7287480" y="716400"/>
              <a:chExt cx="669960" cy="1688400"/>
            </a:xfrm>
          </p:grpSpPr>
          <p:sp>
            <p:nvSpPr>
              <p:cNvPr id="46" name="Rectangle 16"/>
              <p:cNvSpPr/>
              <p:nvPr/>
            </p:nvSpPr>
            <p:spPr>
              <a:xfrm rot="360000">
                <a:off x="7425720" y="740880"/>
                <a:ext cx="502920" cy="576360"/>
              </a:xfrm>
              <a:prstGeom prst="rect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Rectangle 17"/>
              <p:cNvSpPr/>
              <p:nvPr/>
            </p:nvSpPr>
            <p:spPr>
              <a:xfrm rot="360000">
                <a:off x="7341840" y="1310760"/>
                <a:ext cx="502920" cy="1070280"/>
              </a:xfrm>
              <a:prstGeom prst="rect">
                <a:avLst/>
              </a:prstGeom>
              <a:solidFill>
                <a:srgbClr val="dce6f2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8" name="Group 26"/>
          <p:cNvGrpSpPr/>
          <p:nvPr/>
        </p:nvGrpSpPr>
        <p:grpSpPr>
          <a:xfrm>
            <a:off x="7856640" y="1067400"/>
            <a:ext cx="966600" cy="1712880"/>
            <a:chOff x="7856640" y="1067400"/>
            <a:chExt cx="966600" cy="1712880"/>
          </a:xfrm>
        </p:grpSpPr>
        <p:sp>
          <p:nvSpPr>
            <p:cNvPr id="49" name="Rectangle 22"/>
            <p:cNvSpPr/>
            <p:nvPr/>
          </p:nvSpPr>
          <p:spPr>
            <a:xfrm rot="600000">
              <a:off x="8488440" y="1246320"/>
              <a:ext cx="210960" cy="144432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24"/>
            <p:cNvSpPr/>
            <p:nvPr/>
          </p:nvSpPr>
          <p:spPr>
            <a:xfrm rot="600000">
              <a:off x="8082000" y="1106640"/>
              <a:ext cx="503280" cy="576000"/>
            </a:xfrm>
            <a:prstGeom prst="rect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25"/>
            <p:cNvSpPr/>
            <p:nvPr/>
          </p:nvSpPr>
          <p:spPr>
            <a:xfrm rot="600000">
              <a:off x="7945560" y="1674360"/>
              <a:ext cx="503280" cy="1069920"/>
            </a:xfrm>
            <a:prstGeom prst="rect">
              <a:avLst/>
            </a:prstGeom>
            <a:solidFill>
              <a:srgbClr val="f2dcd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Group 41"/>
          <p:cNvGrpSpPr/>
          <p:nvPr/>
        </p:nvGrpSpPr>
        <p:grpSpPr>
          <a:xfrm>
            <a:off x="0" y="1809720"/>
            <a:ext cx="9144000" cy="120600"/>
            <a:chOff x="0" y="1809720"/>
            <a:chExt cx="9144000" cy="120600"/>
          </a:xfrm>
        </p:grpSpPr>
        <p:sp>
          <p:nvSpPr>
            <p:cNvPr id="53" name="Straight Connector 31"/>
            <p:cNvSpPr/>
            <p:nvPr/>
          </p:nvSpPr>
          <p:spPr>
            <a:xfrm>
              <a:off x="0" y="180972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Straight Connector 33"/>
            <p:cNvSpPr/>
            <p:nvPr/>
          </p:nvSpPr>
          <p:spPr>
            <a:xfrm>
              <a:off x="0" y="18651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Straight Connector 34"/>
            <p:cNvSpPr/>
            <p:nvPr/>
          </p:nvSpPr>
          <p:spPr>
            <a:xfrm>
              <a:off x="0" y="19288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6" name="Group 277" descr=""/>
          <p:cNvPicPr/>
          <p:nvPr/>
        </p:nvPicPr>
        <p:blipFill>
          <a:blip r:embed="rId3"/>
          <a:stretch/>
        </p:blipFill>
        <p:spPr>
          <a:xfrm>
            <a:off x="438120" y="2298600"/>
            <a:ext cx="1414440" cy="14986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3A423-E2E4-441D-A04D-E6E4F65F90C8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traight Connector 6"/>
          <p:cNvSpPr/>
          <p:nvPr/>
        </p:nvSpPr>
        <p:spPr>
          <a:xfrm>
            <a:off x="0" y="1316160"/>
            <a:ext cx="8577360" cy="1440"/>
          </a:xfrm>
          <a:prstGeom prst="line">
            <a:avLst/>
          </a:prstGeom>
          <a:ln w="93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Group 277" descr=""/>
          <p:cNvPicPr/>
          <p:nvPr/>
        </p:nvPicPr>
        <p:blipFill>
          <a:blip r:embed="rId2"/>
          <a:stretch/>
        </p:blipFill>
        <p:spPr>
          <a:xfrm>
            <a:off x="317520" y="212760"/>
            <a:ext cx="968400" cy="10000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11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2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18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103" name="Freeform 14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104" name="Freeform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" name="Rectangle 16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Rectangle 17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9F43C-4A34-4217-B9EA-1E27034CE2A1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8"/>
          <p:cNvSpPr/>
          <p:nvPr/>
        </p:nvSpPr>
        <p:spPr>
          <a:xfrm>
            <a:off x="0" y="4718160"/>
            <a:ext cx="9144000" cy="172872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Group 6"/>
          <p:cNvGrpSpPr/>
          <p:nvPr/>
        </p:nvGrpSpPr>
        <p:grpSpPr>
          <a:xfrm>
            <a:off x="7031880" y="3440520"/>
            <a:ext cx="867960" cy="1688400"/>
            <a:chOff x="7031880" y="3440520"/>
            <a:chExt cx="867960" cy="1688400"/>
          </a:xfrm>
        </p:grpSpPr>
        <p:sp>
          <p:nvSpPr>
            <p:cNvPr id="151" name="Rectangle 7"/>
            <p:cNvSpPr/>
            <p:nvPr/>
          </p:nvSpPr>
          <p:spPr>
            <a:xfrm rot="360000">
              <a:off x="7613640" y="3602880"/>
              <a:ext cx="210960" cy="144504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" name="Group 18"/>
            <p:cNvGrpSpPr/>
            <p:nvPr/>
          </p:nvGrpSpPr>
          <p:grpSpPr>
            <a:xfrm>
              <a:off x="7031880" y="3440520"/>
              <a:ext cx="670320" cy="1688400"/>
              <a:chOff x="7031880" y="3440520"/>
              <a:chExt cx="670320" cy="1688400"/>
            </a:xfrm>
          </p:grpSpPr>
          <p:sp>
            <p:nvSpPr>
              <p:cNvPr id="153" name="Rectangle 9"/>
              <p:cNvSpPr/>
              <p:nvPr/>
            </p:nvSpPr>
            <p:spPr>
              <a:xfrm rot="360000">
                <a:off x="7170120" y="3465000"/>
                <a:ext cx="503280" cy="576360"/>
              </a:xfrm>
              <a:prstGeom prst="rect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Rectangle 10"/>
              <p:cNvSpPr/>
              <p:nvPr/>
            </p:nvSpPr>
            <p:spPr>
              <a:xfrm rot="360000">
                <a:off x="7086240" y="4034880"/>
                <a:ext cx="503280" cy="1070280"/>
              </a:xfrm>
              <a:prstGeom prst="rect">
                <a:avLst/>
              </a:prstGeom>
              <a:solidFill>
                <a:srgbClr val="dce6f2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5" name="Group 11"/>
          <p:cNvGrpSpPr/>
          <p:nvPr/>
        </p:nvGrpSpPr>
        <p:grpSpPr>
          <a:xfrm>
            <a:off x="7620120" y="3791520"/>
            <a:ext cx="966600" cy="1712880"/>
            <a:chOff x="7620120" y="3791520"/>
            <a:chExt cx="966600" cy="1712880"/>
          </a:xfrm>
        </p:grpSpPr>
        <p:sp>
          <p:nvSpPr>
            <p:cNvPr id="156" name="Rectangle 12"/>
            <p:cNvSpPr/>
            <p:nvPr/>
          </p:nvSpPr>
          <p:spPr>
            <a:xfrm rot="600000">
              <a:off x="8251920" y="3970440"/>
              <a:ext cx="210960" cy="144432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Rectangle 13"/>
            <p:cNvSpPr/>
            <p:nvPr/>
          </p:nvSpPr>
          <p:spPr>
            <a:xfrm rot="600000">
              <a:off x="7845480" y="3830760"/>
              <a:ext cx="503280" cy="576000"/>
            </a:xfrm>
            <a:prstGeom prst="rect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14"/>
            <p:cNvSpPr/>
            <p:nvPr/>
          </p:nvSpPr>
          <p:spPr>
            <a:xfrm rot="600000">
              <a:off x="7709040" y="4398480"/>
              <a:ext cx="503280" cy="1069920"/>
            </a:xfrm>
            <a:prstGeom prst="rect">
              <a:avLst/>
            </a:prstGeom>
            <a:solidFill>
              <a:srgbClr val="f2dcd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Group 19"/>
          <p:cNvGrpSpPr/>
          <p:nvPr/>
        </p:nvGrpSpPr>
        <p:grpSpPr>
          <a:xfrm>
            <a:off x="0" y="4575240"/>
            <a:ext cx="9144000" cy="120600"/>
            <a:chOff x="0" y="4575240"/>
            <a:chExt cx="9144000" cy="120600"/>
          </a:xfrm>
        </p:grpSpPr>
        <p:sp>
          <p:nvSpPr>
            <p:cNvPr id="160" name="Straight Connector 15"/>
            <p:cNvSpPr/>
            <p:nvPr/>
          </p:nvSpPr>
          <p:spPr>
            <a:xfrm>
              <a:off x="0" y="457524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Straight Connector 16"/>
            <p:cNvSpPr/>
            <p:nvPr/>
          </p:nvSpPr>
          <p:spPr>
            <a:xfrm>
              <a:off x="0" y="46306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Straight Connector 17"/>
            <p:cNvSpPr/>
            <p:nvPr/>
          </p:nvSpPr>
          <p:spPr>
            <a:xfrm>
              <a:off x="0" y="469440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3" name="Group 277" descr=""/>
          <p:cNvPicPr/>
          <p:nvPr/>
        </p:nvPicPr>
        <p:blipFill>
          <a:blip r:embed="rId2"/>
          <a:stretch/>
        </p:blipFill>
        <p:spPr>
          <a:xfrm>
            <a:off x="360360" y="5005440"/>
            <a:ext cx="992160" cy="106668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0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1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2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6A950-FC6D-42C0-A21F-252A70E19309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9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208" name="Freeform 10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209" name="Freeform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0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1" name="Rectangle 11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c0504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Rectangle 12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Straight Connector 13"/>
          <p:cNvSpPr/>
          <p:nvPr/>
        </p:nvSpPr>
        <p:spPr>
          <a:xfrm>
            <a:off x="0" y="1316160"/>
            <a:ext cx="8577360" cy="1440"/>
          </a:xfrm>
          <a:prstGeom prst="line">
            <a:avLst/>
          </a:prstGeom>
          <a:ln w="93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4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5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8098F-3F3D-4C4E-980D-C869D1BF411F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9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Group 10"/>
          <p:cNvGrpSpPr/>
          <p:nvPr/>
        </p:nvGrpSpPr>
        <p:grpSpPr>
          <a:xfrm>
            <a:off x="0" y="1143000"/>
            <a:ext cx="9144000" cy="120600"/>
            <a:chOff x="0" y="1143000"/>
            <a:chExt cx="9144000" cy="120600"/>
          </a:xfrm>
        </p:grpSpPr>
        <p:sp>
          <p:nvSpPr>
            <p:cNvPr id="257" name="Straight Connector 11"/>
            <p:cNvSpPr/>
            <p:nvPr/>
          </p:nvSpPr>
          <p:spPr>
            <a:xfrm>
              <a:off x="0" y="114300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Straight Connector 12"/>
            <p:cNvSpPr/>
            <p:nvPr/>
          </p:nvSpPr>
          <p:spPr>
            <a:xfrm>
              <a:off x="0" y="119844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Straight Connector 13"/>
            <p:cNvSpPr/>
            <p:nvPr/>
          </p:nvSpPr>
          <p:spPr>
            <a:xfrm>
              <a:off x="0" y="12621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0" name="Group 277" descr=""/>
          <p:cNvPicPr/>
          <p:nvPr/>
        </p:nvPicPr>
        <p:blipFill>
          <a:blip r:embed="rId2"/>
          <a:stretch/>
        </p:blipFill>
        <p:spPr>
          <a:xfrm>
            <a:off x="285840" y="146160"/>
            <a:ext cx="860400" cy="93348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6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17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18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08992-2F26-4D98-8919-AB0C3A925EA7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8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" name="Group 9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305" name="Freeform 10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306" name="Freeform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7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8" name="Rectangle 11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Rectangle 12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ftr" idx="20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sldNum" idx="21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56FFF-F658-44BA-BBD1-309526825239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8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9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Group 10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354" name="Freeform 11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355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6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7" name="Rectangle 12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Rectangle 13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22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23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24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63537-5E0F-4646-9E2D-D19C0C67C054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6"/>
          <p:cNvSpPr/>
          <p:nvPr/>
        </p:nvSpPr>
        <p:spPr>
          <a:xfrm>
            <a:off x="0" y="0"/>
            <a:ext cx="9144000" cy="139068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1" name="Group 7"/>
          <p:cNvGrpSpPr/>
          <p:nvPr/>
        </p:nvGrpSpPr>
        <p:grpSpPr>
          <a:xfrm>
            <a:off x="0" y="1380960"/>
            <a:ext cx="9144000" cy="120960"/>
            <a:chOff x="0" y="1380960"/>
            <a:chExt cx="9144000" cy="120960"/>
          </a:xfrm>
        </p:grpSpPr>
        <p:sp>
          <p:nvSpPr>
            <p:cNvPr id="402" name="Straight Connector 8"/>
            <p:cNvSpPr/>
            <p:nvPr/>
          </p:nvSpPr>
          <p:spPr>
            <a:xfrm>
              <a:off x="0" y="13809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Straight Connector 9"/>
            <p:cNvSpPr/>
            <p:nvPr/>
          </p:nvSpPr>
          <p:spPr>
            <a:xfrm>
              <a:off x="0" y="14367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Straight Connector 10"/>
            <p:cNvSpPr/>
            <p:nvPr/>
          </p:nvSpPr>
          <p:spPr>
            <a:xfrm>
              <a:off x="0" y="15004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dt" idx="25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 type="ftr" idx="26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 type="sldNum" idx="27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62F52-8C99-4484-B1EB-69C9878DB715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57200" y="2998440"/>
            <a:ext cx="629136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굴림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  <a:ea typeface="굴림"/>
              </a:rPr>
              <a:t>KORN 101-01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title"/>
          </p:nvPr>
        </p:nvSpPr>
        <p:spPr>
          <a:xfrm>
            <a:off x="1499760" y="4856040"/>
            <a:ext cx="6985080" cy="13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LESSON 2 </a:t>
            </a: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요즘 어떻게 지내십니까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?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3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5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잘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_______(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ㅂ니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자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쓰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가르치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먹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읽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4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7030a0"/>
                </a:solidFill>
                <a:latin typeface="Corbel"/>
                <a:ea typeface="굴림"/>
              </a:rPr>
              <a:t>가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: __________</a:t>
            </a:r>
            <a:r>
              <a:rPr b="0" lang="ko-KR" sz="3200" spc="-1" strike="noStrike">
                <a:solidFill>
                  <a:srgbClr val="7030a0"/>
                </a:solidFill>
                <a:latin typeface="Corbel"/>
                <a:ea typeface="굴림"/>
              </a:rPr>
              <a:t>께서도 안녕하십니까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,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안녕하십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할아버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선생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사장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아버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어머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5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9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7030a0"/>
                </a:solidFill>
                <a:latin typeface="Corbel"/>
                <a:ea typeface="굴림"/>
              </a:rPr>
              <a:t>가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: __________</a:t>
            </a:r>
            <a:r>
              <a:rPr b="0" lang="ko-KR" sz="3200" spc="-1" strike="noStrike">
                <a:solidFill>
                  <a:srgbClr val="7030a0"/>
                </a:solidFill>
                <a:latin typeface="Corbel"/>
                <a:ea typeface="굴림"/>
              </a:rPr>
              <a:t>께서도 안녕하십니까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,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잘 있습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남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6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1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7030a0"/>
                </a:solidFill>
                <a:latin typeface="Corbel"/>
                <a:ea typeface="굴림"/>
              </a:rPr>
              <a:t>가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: __________</a:t>
            </a:r>
            <a:r>
              <a:rPr b="0" lang="ko-KR" sz="3200" spc="-1" strike="noStrike">
                <a:solidFill>
                  <a:srgbClr val="7030a0"/>
                </a:solidFill>
                <a:latin typeface="Corbel"/>
                <a:ea typeface="굴림"/>
              </a:rPr>
              <a:t>도 잘 있습니까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,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잘 있습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친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아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동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학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숙제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Assignment)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3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TB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 txBox="1"/>
          <p:nvPr/>
        </p:nvSpPr>
        <p:spPr>
          <a:xfrm>
            <a:off x="456840" y="1600200"/>
            <a:ext cx="811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재호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요즘 어떻게 지내십니까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량위링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잘 지냅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재호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부모님께서도 안녕하십니까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량위링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,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안녕하십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네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Ye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아니오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No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DIALOGUE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단어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Vocabulary)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0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요즘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these days, nowadays, recentl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지내다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to get along (do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잘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w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부모님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par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99"/>
              </a:spcBef>
              <a:buClr>
                <a:srgbClr val="9bbb5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문법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Grammar) 1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2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어떻게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how; interrogative adver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cc"/>
                </a:solidFill>
                <a:latin typeface="Corbel"/>
                <a:ea typeface="굴림"/>
              </a:rPr>
              <a:t>어떻게 합니까</a:t>
            </a:r>
            <a:r>
              <a:rPr b="0" lang="en-US" sz="2800" spc="-1" strike="noStrike">
                <a:solidFill>
                  <a:srgbClr val="0000cc"/>
                </a:solidFill>
                <a:latin typeface="Corbel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cc"/>
                </a:solidFill>
                <a:latin typeface="Corbel"/>
                <a:ea typeface="굴림"/>
              </a:rPr>
              <a:t>이것을 어떻게 만들었습니까</a:t>
            </a:r>
            <a:r>
              <a:rPr b="0" lang="en-US" sz="2800" spc="-1" strike="noStrike">
                <a:solidFill>
                  <a:srgbClr val="0000cc"/>
                </a:solidFill>
                <a:latin typeface="Corbel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cc"/>
                </a:solidFill>
                <a:latin typeface="Corbel"/>
                <a:ea typeface="굴림"/>
              </a:rPr>
              <a:t>그 사람은 어떻게 생겼습</a:t>
            </a:r>
            <a:r>
              <a:rPr b="0" lang="en-US" sz="2800" spc="-1" strike="noStrike">
                <a:solidFill>
                  <a:srgbClr val="0000cc"/>
                </a:solidFill>
                <a:latin typeface="Corbel"/>
                <a:ea typeface="굴림"/>
              </a:rPr>
              <a:t>	</a:t>
            </a:r>
            <a:r>
              <a:rPr b="0" lang="ko-KR" sz="2800" spc="-1" strike="noStrike">
                <a:solidFill>
                  <a:srgbClr val="0000cc"/>
                </a:solidFill>
                <a:latin typeface="Corbel"/>
                <a:ea typeface="굴림"/>
              </a:rPr>
              <a:t>니까</a:t>
            </a:r>
            <a:r>
              <a:rPr b="0" lang="en-US" sz="2800" spc="-1" strike="noStrike">
                <a:solidFill>
                  <a:srgbClr val="0000cc"/>
                </a:solidFill>
                <a:latin typeface="Corbel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~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께서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; honorific expression of ~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이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cc"/>
                </a:solidFill>
                <a:latin typeface="Corbel"/>
                <a:ea typeface="굴림"/>
              </a:rPr>
              <a:t>선생님께서 이야기하십니다</a:t>
            </a:r>
            <a:r>
              <a:rPr b="0" lang="en-US" sz="28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cc"/>
                </a:solidFill>
                <a:latin typeface="Corbel"/>
                <a:ea typeface="굴림"/>
              </a:rPr>
              <a:t>할아버지께서 오십니다</a:t>
            </a:r>
            <a:r>
              <a:rPr b="0" lang="en-US" sz="28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cc"/>
                </a:solidFill>
                <a:latin typeface="Corbel"/>
                <a:ea typeface="굴림"/>
              </a:rPr>
              <a:t>아버지께서 신문을 읽으십니다</a:t>
            </a:r>
            <a:r>
              <a:rPr b="0" lang="en-US" sz="28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76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문법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Grammar) 2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~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도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also, too; a subject/object postpos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cc"/>
                </a:solidFill>
                <a:latin typeface="Corbel"/>
                <a:ea typeface="굴림"/>
              </a:rPr>
              <a:t>저도</a:t>
            </a:r>
            <a:r>
              <a:rPr b="0" lang="en-US" sz="2800" spc="-1" strike="noStrike">
                <a:solidFill>
                  <a:srgbClr val="0000cc"/>
                </a:solidFill>
                <a:latin typeface="Corbel"/>
                <a:ea typeface="굴림"/>
              </a:rPr>
              <a:t> </a:t>
            </a:r>
            <a:r>
              <a:rPr b="0" lang="ko-KR" sz="2800" spc="-1" strike="noStrike">
                <a:solidFill>
                  <a:srgbClr val="0000cc"/>
                </a:solidFill>
                <a:latin typeface="Corbel"/>
                <a:ea typeface="굴림"/>
              </a:rPr>
              <a:t>좋습니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cc"/>
                </a:solidFill>
                <a:latin typeface="Corbel"/>
                <a:ea typeface="굴림"/>
              </a:rPr>
              <a:t>그 사람도 압니다</a:t>
            </a:r>
            <a:r>
              <a:rPr b="0" lang="en-US" sz="28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cc"/>
                </a:solidFill>
                <a:latin typeface="Corbel"/>
                <a:ea typeface="굴림"/>
              </a:rPr>
              <a:t>그 음식도 맛있습니다</a:t>
            </a:r>
            <a:r>
              <a:rPr b="0" lang="en-US" sz="28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rbel"/>
                <a:ea typeface="굴림"/>
              </a:rPr>
              <a:t>Particle? Or Postpositio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 txBox="1"/>
          <p:nvPr/>
        </p:nvSpPr>
        <p:spPr>
          <a:xfrm>
            <a:off x="456840" y="1600200"/>
            <a:ext cx="811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맑은 고딕"/>
              </a:rPr>
              <a:t>Make nouns/prenouns into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subject/object/possesive form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Equivalent array ( ~ and ~, ~ or ~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Adjective or adverbe phrase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맑은 고딕"/>
              </a:rPr>
              <a:t>Postpositions?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503280" y="1600200"/>
            <a:ext cx="3859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선생님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teacher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98440" indent="-2984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씨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Mr. (Ms.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98440" indent="-2984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교수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professor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98440" indent="-2984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가르치다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teach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98440" indent="-2984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아버지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father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98440" indent="-2984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있다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be, exist, presen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98440" indent="-2984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남편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husband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98440" indent="-2984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친구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friend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98440" indent="-2984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딸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daughter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98440" indent="-2984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학생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studen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4498920" y="1600200"/>
            <a:ext cx="3859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사장님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presiden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9040" indent="-3290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부장님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Director?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9040" indent="-3290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하다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do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9040" indent="-3290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할아버지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grandfather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9040" indent="-3290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어머니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mother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9040" indent="-3290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부인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wif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9040" indent="-3290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아이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child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9040" indent="-3290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아들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son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9040" indent="-3290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동생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youn ger brother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보충단어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Additional Vocabulary)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Pattern Drill) 1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1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, 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요즘 어떻게 지내십니까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장사장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정수미 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이영진 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마이클 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다나카 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타일러 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2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3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가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_________,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요즘 어떻게 지내십니까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잘 지냅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야마다 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이 부장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최 교수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임지호 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김윤미 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6T08:40:46Z</dcterms:created>
  <dc:creator>jyy</dc:creator>
  <dc:description/>
  <dc:language>en-US</dc:language>
  <cp:lastModifiedBy>SRU</cp:lastModifiedBy>
  <dcterms:modified xsi:type="dcterms:W3CDTF">2012-09-24T14:40:06Z</dcterms:modified>
  <cp:revision>70</cp:revision>
  <dc:subject/>
  <dc:title>KOREAN LANGUAGE</dc:title>
</cp:coreProperties>
</file>